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9FC61-1841-4BF0-848D-EDF33F187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E9FEE-21E8-4332-834A-DD8849F7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70185-D32A-4AB7-A871-B97B98A434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72E97-F256-4C56-A939-D79B92286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F96570-013E-4169-B634-7FA7C010E7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64826-5A6D-4B4D-A33D-5D2D5A212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A7FD0B-246C-476E-9070-A7E216D3C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ABB5F-55E6-4D42-8E95-89DCF3DD2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81C52-D1B3-4283-B9E3-A998B1A5E3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4DB486-4141-400E-A19D-B6566DD97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2E918D-75D8-4EE5-A26B-63668FE675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FFC339-C821-41E1-8E66-1D587073F0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4AEAA-87C4-41CD-A2F7-D0CBE7625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5BA3E6-E38A-4990-AA5C-756C65D869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D5EF41-7539-480C-8B8B-729DB04C84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0A66CA-5BEE-4C6F-A0F7-1C76238D8F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6D0194-342C-4E94-AB99-E9B0EAD29B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2E4E8B-B33E-4555-80A0-B3AFED1C01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8EF9D9-7B38-4DFF-8DFE-4AB95EE218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F806FE-AFCC-4927-8A95-59C0B8C041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056AF5-B06B-4970-8D2A-25A9F5D420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D1AEB2-6928-4403-9285-97C0E04382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8F33C3-1423-4760-B13A-6BB48FD588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C4314-F6F2-4314-9112-AEBA07B6F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832F40-FA01-4BAE-9408-738A49803D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A9E7B6-CCD9-44CE-B67A-F011F19D62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40D3B8-F987-4ED8-B941-F58C9E067F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1C29E3-0F97-42B8-9EA9-2083657203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DC194-8671-4F44-A542-4537BD228A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5BA895-0573-4CDD-A9B6-6E25BBF5B1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8EE692-1935-4D93-9E93-D1D92826A2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7EB5D-DE5B-4D68-95BA-F7AC58B960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7813C8-6993-438A-93FF-972AB99875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7188AC-A42D-4D33-AB14-1A5453B589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2132A-B3D3-4090-8ABB-BCE18C708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467D96-496A-4E47-8ECA-3CC1F9A5A4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8F1982-8BBD-412E-B48F-D9948832B0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02313F-E488-4AB5-9CA2-B6731EE11A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69B328-912A-4343-B445-6F76733DEA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327C5B-13DC-4512-AC9D-811D89171F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A3CBA0-1EE7-4349-93DE-80E4341686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F62420-3ED8-4AF2-B4FB-4852D88F7E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CAE9D3-A0C4-4C56-BF33-40AE90C5FF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BCB683-855F-4979-95E1-23465B8118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67E373-F5E4-4D8B-A4E2-B275D5D19D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232BB-2F1D-40D7-BD61-4D6E114B5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151E9D-3B51-4FE1-B08F-2D33C659B2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E6565-E6E9-4F6D-A0D7-CAE8138CDF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24AC0D-1426-493D-AF34-C759C5A041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95A48F-D961-4104-871C-D9B7796B24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775B9B3-EDC6-43A1-A168-DA3E11B676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15E7B4-0FA1-4ABA-9CC4-0D6557A249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FF44DB-7381-40BA-9265-29C8D48DE9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7469E9-8116-43F6-8B03-5EACDEA297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72E592-1D33-4EEC-9E3F-D78B639579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D8E373-CFA0-4ACA-B6FB-6D654D144D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DD412-058E-4D2F-BE7F-C18CF13B4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761A7C-140D-4BA2-833B-9556F65C9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A2D5BD-7734-4E44-AEAE-51478BAFFF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98BA17-C053-4000-97DB-EDC2A15032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EFDD8C-FF3E-4E5F-BFAC-44E53853B5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11F04F-CD3E-497B-8452-31DEEC2217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676FAD-242B-4D95-8DBE-58DD9515D1A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456489E-A412-4DA0-950C-6B620EC5A5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9965C-9483-40BB-ACB9-08665A3E5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11F7F-C476-427D-A7BF-2C56FF4DF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C0070-61E4-4575-82E2-65D82E423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E3A7-0B44-43E6-B0CC-86851F92F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755E-CA28-4CC0-B6E9-90AFEFEF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D1355-5C2E-4D24-83E6-454C085E9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2A147-F154-45E8-94E8-FED7308D8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FF6C3-029F-4B44-9305-8E1B097B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7FB5A-3F3A-446C-9D9F-B1507794F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4F39F-B157-4621-A8B9-AC797ED9E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906AF-E46E-4E1A-AE3E-2589B400B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EBAFF-3D95-49BB-B36B-656EE32EC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A9EDC-6312-47E5-88E5-DF791EAE6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6E791-F2C7-46D8-A2BF-BE6225CE5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74845-2A05-45E4-A62A-F731186ED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10BF1-9BF7-408B-8027-1B8708A9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D7423-6AF6-47CF-B790-E59BCF62C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90E02-6839-4621-A18B-6CAD552D3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F02F2-7435-4321-AF35-D8D55CF95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6E40A-550E-4BA9-A2C7-E15A97A7C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8652A-53BA-4F54-B328-16901E2BF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0006B-E600-426A-A5E6-0B1133BF3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61AA4-0DA5-4D17-9668-D247070D3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CB3288-C615-4F60-8A07-08DDED38AE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899BB-F98E-4C02-B432-6133473DB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76EDF-7309-4DBF-8ABE-1511D479A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9DDED-5F91-47A8-B305-6AF452DB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F7BC1-E423-45AE-B2B0-7651DEB7D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589FA-5358-4BF5-B0AC-78718B2C5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0E6F5-C763-420B-BD4C-4ECEBA84B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E032E-2807-441B-B5CC-CFAD42BAA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1F86B-C91E-4F23-BD26-E0B6663AA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699B7-43A7-44BC-9324-AB7CDA406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67612-4510-45EF-87CD-37DFC19ED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EF837B-0F3E-4257-B085-A3A6712551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C5B17-0588-4CFE-AFB9-D66279D998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991A0D-42D6-42E2-AFE4-AF25FD550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EC64-846E-4ABA-8B2C-88F73290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71B1D-C532-4942-842B-E7C8CA0A7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C389D-DF37-4704-8F6A-F66792245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6DE27-A406-4B49-B79C-5C3829358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8FFE2-90F3-41C0-92C5-6DE7480FF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EEB63-E9D9-49C9-BAE5-EAFC36D9C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B2A32-7746-465F-8A4D-9FDEBA5B3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61733-7506-4DA7-86BD-C9BF9DF5D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A1B6E-E7ED-4F1B-B1AA-04F9478E7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D25E1-B03D-4DA9-B22B-1642E22EC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94870D-F753-4BC2-AA49-0437331CF5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9D2AF-0802-468F-A1B2-3DBAFA90D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0ACE9C-A6DB-4A57-8FF2-FE1CA28E1D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1C718-745D-4898-A40F-191F31453F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1F69A-B78B-469B-96A7-A5E879F92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A22D7-4708-4F21-B9BD-45A7C3E27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DC1DD-EEC8-4091-92CD-F69389CDF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2FDE4-68C4-4B9B-897F-60FBDD0A1B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A02E1-1AB6-48AA-BAF0-D0E7B2A0D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34491-7172-4D97-B212-F866C0F6E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AE9DE-F92A-429D-8446-5CCF68073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CAF31-0AFF-4E96-9838-A9663D7F5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205F-89C1-41F1-A603-D57AEB34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15B67-D0FE-41E8-86BB-AA97B4671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5D3717-752B-423A-B266-F513A0C4A4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E904BF-0DDB-4247-9CE3-CBE0540B53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540987-48E1-4039-94FC-75B10316FD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53AA1-79EE-47EE-A499-EF2E5BDB3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D4BFE-D1F9-491B-8507-29DA122DED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227CB-E790-4E78-B970-600B92D5C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E6EA2-82A0-400B-9D60-8DAAA246E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8B0743-FBFC-4426-BE3E-B69068B11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119EF3-2693-40D2-90FE-34695A953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5B5B-7A08-47C5-AE57-FEA1A8ED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5FCF0-F05B-4053-8372-9917CDD62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98B70-76A8-4CE1-BB9E-720B91E53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22321-40C5-4496-97C8-95D512B6E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76E4BF-2778-4935-91DF-35D50C9C7C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16F03F-6FD6-4665-A9E5-898A178DB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EB443B-EEAF-4497-A66F-0DE0DC38BC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C3880-7D05-4BE0-B191-4C12A84F0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DDAE4-02A5-4BD7-8F6D-B65629081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51F9D-DAED-4142-972A-12B1E8BD3D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E77AE4-6A12-481A-930C-CFE082558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DA1C-5F02-4C33-955F-43A2F2AC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AE269-1F3E-4B89-816B-2EE465B27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C2930-5B33-4B5D-8D51-0ADBC70C8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B2C36-8B2D-41E7-92EC-2004E6F125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EEC01-BB47-4101-A2C9-F8D3CE751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96F01-445B-4214-88FA-3B067A4E21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DB695E-0010-45A2-8717-CA08833D1F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D0E334-6D7A-4119-A136-F8A1D76B39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4EB92A-5F01-4BD5-8C6E-F1CD273859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BC1A03-4F9E-4590-973F-B44E19E22A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AE4E7C-1CEC-43B5-958A-D9CFE31DE8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2F6F-DA16-4992-B249-858A51E70FAE}" type="slidenum">
              <a:rPr b="0" lang="et-E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D2F4-72EF-4CAE-92FA-D0F73E936430}"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6056-F3FE-46AD-8C94-72E39A9A353A}"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4CF2-05BA-4B1C-B1F0-7A3177B9D0A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9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9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E7D8-5F31-485D-AA98-35F178E12B88}"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A5367-5478-449F-AC8D-FB61416396FF}"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sotsmin_3lovi_est.png"/>
          <p:cNvPicPr/>
          <p:nvPr/>
        </p:nvPicPr>
        <p:blipFill>
          <a:blip r:embed="rId2"/>
          <a:stretch/>
        </p:blipFill>
        <p:spPr>
          <a:xfrm>
            <a:off x="174600" y="262080"/>
            <a:ext cx="2881440" cy="11523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7A5C-CB36-4F2B-AA4C-AAB5C9E4E450}"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4E44-86CE-4C0E-BCDE-42DDE23869F5}"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490A-8952-4210-8F10-D5E55AF8614A}"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1C50-5E31-414E-8444-339ABED2EE84}"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452A-94AC-45AF-ABF7-AD89B480B7E0}"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A9A2-17C8-472B-9A35-1784DDF6FB29}"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Roboto Regular"/>
                <a:ea typeface="Roboto Regula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D025-D055-4F06-A3FC-86CEFF36DD3C}"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Reeli.sirotkina@sm.e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00000" y="2276280"/>
            <a:ext cx="7772400" cy="1469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Unicode MS"/>
              </a:rPr>
              <a:t>What could the ACTIVE mean in the context of active ageing</a:t>
            </a:r>
            <a:r>
              <a:rPr b="0" lang="et-EE" sz="4400" spc="-1" strike="noStrike">
                <a:solidFill>
                  <a:srgbClr val="000000"/>
                </a:solidFill>
                <a:latin typeface="Arial Unicode MS"/>
              </a:rPr>
              <a:t> strategy?</a:t>
            </a:r>
            <a:endParaRPr b="0" lang="en-US" sz="4400" spc="-1" strike="noStrike">
              <a:solidFill>
                <a:srgbClr val="000000"/>
              </a:solidFill>
              <a:latin typeface="Roboto Regular"/>
            </a:endParaRPr>
          </a:p>
        </p:txBody>
      </p:sp>
      <p:sp>
        <p:nvSpPr>
          <p:cNvPr id="535" name="PlaceHolder 2"/>
          <p:cNvSpPr>
            <a:spLocks noGrp="1"/>
          </p:cNvSpPr>
          <p:nvPr>
            <p:ph type="subTitle"/>
          </p:nvPr>
        </p:nvSpPr>
        <p:spPr>
          <a:xfrm>
            <a:off x="971280" y="4005000"/>
            <a:ext cx="7178760" cy="2206440"/>
          </a:xfrm>
          <a:prstGeom prst="rect">
            <a:avLst/>
          </a:prstGeom>
          <a:noFill/>
          <a:ln w="0">
            <a:noFill/>
          </a:ln>
        </p:spPr>
        <p:txBody>
          <a:bodyPr anchor="t">
            <a:no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898989"/>
                </a:solidFill>
                <a:latin typeface="Roboto Regular"/>
              </a:rPr>
              <a:t>Reeli Sirotkina</a:t>
            </a:r>
            <a:endParaRPr b="0" lang="en-US" sz="32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898989"/>
                </a:solidFill>
                <a:latin typeface="Roboto Regular"/>
              </a:rPr>
              <a:t>“</a:t>
            </a:r>
            <a:r>
              <a:rPr b="1" lang="en-GB" sz="1900" spc="-1" strike="noStrike">
                <a:solidFill>
                  <a:srgbClr val="898989"/>
                </a:solidFill>
                <a:latin typeface="Roboto Regular"/>
              </a:rPr>
              <a:t>Latvia: Developing a Comprehensive Active Ageing Strategy for Longer and Better Working Lives”</a:t>
            </a:r>
            <a:r>
              <a:rPr b="1" lang="et-EE" sz="1900" spc="-1" strike="noStrike">
                <a:solidFill>
                  <a:srgbClr val="898989"/>
                </a:solidFill>
                <a:latin typeface="Roboto Regular"/>
              </a:rPr>
              <a:t>,</a:t>
            </a:r>
            <a:endParaRPr b="0" lang="en-US" sz="1900" spc="-1" strike="noStrike">
              <a:solidFill>
                <a:srgbClr val="000000"/>
              </a:solidFill>
              <a:latin typeface="Roboto Regular"/>
            </a:endParaRPr>
          </a:p>
          <a:p>
            <a:pPr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1900" spc="-1" strike="noStrike">
                <a:solidFill>
                  <a:srgbClr val="898989"/>
                </a:solidFill>
                <a:latin typeface="Roboto Regular"/>
              </a:rPr>
              <a:t>April 7th 2014, Riga</a:t>
            </a:r>
            <a:endParaRPr b="0" lang="en-US" sz="19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19700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2</a:t>
            </a:r>
            <a:endParaRPr b="0" lang="en-US" sz="4400" spc="-1" strike="noStrike">
              <a:solidFill>
                <a:srgbClr val="000000"/>
              </a:solidFill>
              <a:latin typeface="Calibri"/>
            </a:endParaRPr>
          </a:p>
        </p:txBody>
      </p:sp>
      <p:sp>
        <p:nvSpPr>
          <p:cNvPr id="557" name="PlaceHolder 2"/>
          <p:cNvSpPr>
            <a:spLocks noGrp="1"/>
          </p:cNvSpPr>
          <p:nvPr>
            <p:ph/>
          </p:nvPr>
        </p:nvSpPr>
        <p:spPr>
          <a:xfrm>
            <a:off x="533160" y="2565000"/>
            <a:ext cx="8003880" cy="34448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do the older people have in lifelong learning process and in educational system?</a:t>
            </a:r>
            <a:endParaRPr b="0" lang="en-US" sz="32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e third of working older people in the age group </a:t>
            </a:r>
            <a:r>
              <a:rPr b="0" lang="et-EE" sz="2400" spc="-1" strike="noStrike">
                <a:solidFill>
                  <a:srgbClr val="000000"/>
                </a:solidFill>
                <a:latin typeface="Calibri"/>
              </a:rPr>
              <a:t>50-74</a:t>
            </a:r>
            <a:r>
              <a:rPr b="0" lang="en-US" sz="2400" spc="-1" strike="noStrike">
                <a:solidFill>
                  <a:srgbClr val="000000"/>
                </a:solidFill>
                <a:latin typeface="Calibri"/>
              </a:rPr>
              <a:t> have had the training or vocational training to maintain the position.</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58"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3</a:t>
            </a: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ng in the labor market?</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ing different age groups we can say that during the next 15 years we have more people who leave the labor market than those who enter the labor marke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still high number of people leave the labor market- </a:t>
            </a:r>
            <a:r>
              <a:rPr b="0" i="1" lang="en-US" sz="2400" spc="-1" strike="noStrike">
                <a:solidFill>
                  <a:srgbClr val="000000"/>
                </a:solidFill>
                <a:latin typeface="Calibri"/>
              </a:rPr>
              <a:t>employablity.</a:t>
            </a:r>
            <a:endParaRPr b="0" lang="en-US" sz="2400" spc="-1" strike="noStrike">
              <a:solidFill>
                <a:srgbClr val="000000"/>
              </a:solidFill>
              <a:latin typeface="Calibri"/>
            </a:endParaRPr>
          </a:p>
        </p:txBody>
      </p:sp>
      <p:pic>
        <p:nvPicPr>
          <p:cNvPr id="561"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4</a:t>
            </a: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and social care sector are fragmented in terms of financing, administrating and on service delivery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 population is growing-expences are increasing</a:t>
            </a:r>
            <a:r>
              <a:rPr b="0" lang="et-EE"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eliness in old age is gro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any informal carers are over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sibilities in social and medical sector</a:t>
            </a: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Better assessment of needs of dependent older peopl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diverse servic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Flexible financing syst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Cooperation between the health and social care system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More attention</a:t>
            </a:r>
            <a:r>
              <a:rPr b="0" lang="en-US" sz="3200" spc="-1" strike="noStrike">
                <a:solidFill>
                  <a:srgbClr val="000000"/>
                </a:solidFill>
                <a:latin typeface="Calibri"/>
              </a:rPr>
              <a:t> on</a:t>
            </a:r>
            <a:r>
              <a:rPr b="0" lang="et-EE" sz="3200" spc="-1" strike="noStrike">
                <a:solidFill>
                  <a:srgbClr val="000000"/>
                </a:solidFill>
                <a:latin typeface="Calibri"/>
              </a:rPr>
              <a:t> the families caring for older per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Challenge to set up the goal</a:t>
            </a:r>
            <a:endParaRPr b="0" lang="en-US" sz="4400" spc="-1" strike="noStrike">
              <a:solidFill>
                <a:srgbClr val="000000"/>
              </a:solidFill>
              <a:latin typeface="Calibri"/>
            </a:endParaRPr>
          </a:p>
        </p:txBody>
      </p:sp>
      <p:sp>
        <p:nvSpPr>
          <p:cNvPr id="56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a:t>
            </a:r>
            <a:r>
              <a:rPr b="0" lang="et-EE" sz="2400" spc="-1" strike="noStrike">
                <a:solidFill>
                  <a:srgbClr val="000000"/>
                </a:solidFill>
                <a:latin typeface="Calibri"/>
              </a:rPr>
              <a:t> – life -long learning</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work</a:t>
            </a:r>
            <a:r>
              <a:rPr b="0" lang="et-EE" sz="2400" spc="-1" strike="noStrike">
                <a:solidFill>
                  <a:srgbClr val="000000"/>
                </a:solidFill>
                <a:latin typeface="Calibri"/>
              </a:rPr>
              <a:t> - </a:t>
            </a:r>
            <a:r>
              <a:rPr b="0" lang="en-US" sz="2400" spc="-1" strike="noStrike">
                <a:solidFill>
                  <a:srgbClr val="000000"/>
                </a:solidFill>
                <a:latin typeface="Calibri"/>
              </a:rPr>
              <a:t>Family, friends, professionals, etc.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a:t>
            </a:r>
            <a:r>
              <a:rPr b="0" lang="et-EE" sz="2400" spc="-1" strike="noStrike">
                <a:solidFill>
                  <a:srgbClr val="000000"/>
                </a:solidFill>
                <a:latin typeface="Calibri"/>
              </a:rPr>
              <a:t> - </a:t>
            </a:r>
            <a:r>
              <a:rPr b="0" lang="en-US" sz="2400" spc="-1" strike="noStrike">
                <a:solidFill>
                  <a:srgbClr val="000000"/>
                </a:solidFill>
                <a:latin typeface="Calibri"/>
              </a:rPr>
              <a:t>Subjective assessment of health situation is quite high. Functional activity?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 resources</a:t>
            </a:r>
            <a:r>
              <a:rPr b="0" lang="et-EE" sz="2400" spc="-1" strike="noStrike">
                <a:solidFill>
                  <a:srgbClr val="000000"/>
                </a:solidFill>
                <a:latin typeface="Calibri"/>
              </a:rPr>
              <a:t> - </a:t>
            </a:r>
            <a:r>
              <a:rPr b="0" lang="en-US" sz="2400" spc="-1" strike="noStrike">
                <a:solidFill>
                  <a:srgbClr val="000000"/>
                </a:solidFill>
                <a:latin typeface="Calibri"/>
              </a:rPr>
              <a:t>Not all older people are at the risk of poverty.</a:t>
            </a:r>
            <a:endParaRPr b="0" lang="en-US" sz="24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rPr>
              <a:t>The objective of the active ageing development plan</a:t>
            </a:r>
            <a:r>
              <a:rPr b="1" lang="et-EE" sz="3200" spc="-1" strike="noStrike">
                <a:solidFill>
                  <a:srgbClr val="1f497d"/>
                </a:solidFill>
                <a:latin typeface="Calibri"/>
              </a:rPr>
              <a:t> (AADP) </a:t>
            </a:r>
            <a:r>
              <a:rPr b="1" lang="en-GB" sz="3200" spc="-1" strike="noStrike">
                <a:solidFill>
                  <a:srgbClr val="1f497d"/>
                </a:solidFill>
                <a:latin typeface="Calibri"/>
              </a:rPr>
              <a:t> is to create an age-friendly society and ensure quality of life and equal opportunities for the </a:t>
            </a:r>
            <a:r>
              <a:rPr b="1" lang="et-EE" sz="3200" spc="-1" strike="noStrike">
                <a:solidFill>
                  <a:srgbClr val="1f497d"/>
                </a:solidFill>
                <a:latin typeface="Calibri"/>
              </a:rPr>
              <a:t>older persons</a:t>
            </a:r>
            <a:endParaRPr b="0" lang="en-US" sz="3200" spc="-1" strike="noStrike">
              <a:solidFill>
                <a:srgbClr val="000000"/>
              </a:solidFill>
              <a:latin typeface="Calibri"/>
            </a:endParaRPr>
          </a:p>
        </p:txBody>
      </p:sp>
      <p:sp>
        <p:nvSpPr>
          <p:cNvPr id="568" name="Sirgkonnektor 2"/>
          <p:cNvSpPr/>
          <p:nvPr/>
        </p:nvSpPr>
        <p:spPr>
          <a:xfrm>
            <a:off x="611280" y="4221000"/>
            <a:ext cx="7777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Specific aims for AADP</a:t>
            </a:r>
            <a:endParaRPr b="0" lang="en-US" sz="4400" spc="-1" strike="noStrike">
              <a:solidFill>
                <a:srgbClr val="000000"/>
              </a:solidFill>
              <a:latin typeface="Calibri"/>
            </a:endParaRPr>
          </a:p>
        </p:txBody>
      </p:sp>
      <p:sp>
        <p:nvSpPr>
          <p:cNvPr id="57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refore, more precise objectives of the development plan have been set in four are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included in the society and are socially activ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eager to learn and versatile and active learne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are active in the labour market and satisfied with their work lif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lderly stay healthy longer and cope well.</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Calibri"/>
              </a:rPr>
              <a:t>How the implemetation of AADP starts?</a:t>
            </a:r>
            <a:endParaRPr b="0" lang="en-US" sz="4000" spc="-1" strike="noStrike">
              <a:solidFill>
                <a:srgbClr val="000000"/>
              </a:solidFill>
              <a:latin typeface="Calibri"/>
            </a:endParaRPr>
          </a:p>
        </p:txBody>
      </p:sp>
      <p:sp>
        <p:nvSpPr>
          <p:cNvPr id="572"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65 organisations were involved in working groups for creating the AADP.</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AADP as a document was rated with very high scores – it describes the context, changes the attitudes and is useful for creating the specific developmetal plan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Calibri"/>
              </a:rPr>
              <a:t>Is translated into russian and english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conclude…</a:t>
            </a: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dignity of the older persons should be ensured in all times in all societie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k Jarr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GO representative, UNECE Ministerial conference, 19.09.12</a:t>
            </a:r>
            <a:endParaRPr b="0" lang="en-US" sz="2000" spc="-1" strike="noStrike">
              <a:solidFill>
                <a:srgbClr val="000000"/>
              </a:solidFill>
              <a:latin typeface="Calibri"/>
            </a:endParaRPr>
          </a:p>
        </p:txBody>
      </p:sp>
      <p:pic>
        <p:nvPicPr>
          <p:cNvPr id="57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ank you!</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u="sng">
                <a:solidFill>
                  <a:srgbClr val="0000ff"/>
                </a:solidFill>
                <a:uFillTx/>
                <a:latin typeface="Calibri"/>
                <a:hlinkClick r:id="rId1"/>
              </a:rPr>
              <a:t>Reeli.sirotkina@sm.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Overview of the topics</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ctive agei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Process of creating the strateg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Questions for discuss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Active ageing</a:t>
            </a:r>
            <a:endParaRPr b="0" lang="en-US" sz="4400" spc="-1" strike="noStrike">
              <a:solidFill>
                <a:srgbClr val="000000"/>
              </a:solidFill>
              <a:latin typeface="Calibri"/>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is the process of optimising opportunities for </a:t>
            </a:r>
            <a:r>
              <a:rPr b="0" lang="en-US" sz="2800" spc="-1" strike="noStrike" u="sng">
                <a:solidFill>
                  <a:srgbClr val="1f497d"/>
                </a:solidFill>
                <a:uFillTx/>
                <a:latin typeface="Calibri"/>
              </a:rPr>
              <a:t>hea</a:t>
            </a:r>
            <a:r>
              <a:rPr b="0" lang="et-EE" sz="2800" spc="-1" strike="noStrike" u="sng">
                <a:solidFill>
                  <a:srgbClr val="1f497d"/>
                </a:solidFill>
                <a:uFillTx/>
                <a:latin typeface="Calibri"/>
              </a:rPr>
              <a:t>l</a:t>
            </a:r>
            <a:r>
              <a:rPr b="0" lang="en-US" sz="2800" spc="-1" strike="noStrike" u="sng">
                <a:solidFill>
                  <a:srgbClr val="1f497d"/>
                </a:solidFill>
                <a:uFillTx/>
                <a:latin typeface="Calibri"/>
              </a:rPr>
              <a:t>th, participation and security </a:t>
            </a:r>
            <a:r>
              <a:rPr b="0" lang="en-US" sz="2800" spc="-1" strike="noStrike">
                <a:solidFill>
                  <a:srgbClr val="000000"/>
                </a:solidFill>
                <a:latin typeface="Calibri"/>
              </a:rPr>
              <a:t>in order to enhance quality of life as people age” (WHO 200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tive ageing means growing old in </a:t>
            </a:r>
            <a:r>
              <a:rPr b="0" lang="en-US" sz="2800" spc="-1" strike="noStrike" u="sng">
                <a:solidFill>
                  <a:srgbClr val="1f497d"/>
                </a:solidFill>
                <a:uFillTx/>
                <a:latin typeface="Calibri"/>
              </a:rPr>
              <a:t>good health </a:t>
            </a:r>
            <a:r>
              <a:rPr b="0" lang="en-US" sz="2800" spc="-1" strike="noStrike">
                <a:solidFill>
                  <a:srgbClr val="000000"/>
                </a:solidFill>
                <a:latin typeface="Calibri"/>
              </a:rPr>
              <a:t>and as a </a:t>
            </a:r>
            <a:r>
              <a:rPr b="0" lang="en-US" sz="2800" spc="-1" strike="noStrike" u="sng">
                <a:solidFill>
                  <a:srgbClr val="1f497d"/>
                </a:solidFill>
                <a:uFillTx/>
                <a:latin typeface="Calibri"/>
              </a:rPr>
              <a:t>full member of society</a:t>
            </a:r>
            <a:r>
              <a:rPr b="0" lang="en-US" sz="2800" spc="-1" strike="noStrike">
                <a:solidFill>
                  <a:srgbClr val="000000"/>
                </a:solidFill>
                <a:latin typeface="Calibri"/>
              </a:rPr>
              <a:t>, feeling </a:t>
            </a:r>
            <a:r>
              <a:rPr b="0" lang="en-US" sz="2800" spc="-1" strike="noStrike" u="sng">
                <a:solidFill>
                  <a:srgbClr val="1f497d"/>
                </a:solidFill>
                <a:uFillTx/>
                <a:latin typeface="Calibri"/>
              </a:rPr>
              <a:t>more fulfilled in our jobs</a:t>
            </a:r>
            <a:r>
              <a:rPr b="0" lang="en-US" sz="2800" spc="-1" strike="noStrike">
                <a:solidFill>
                  <a:srgbClr val="000000"/>
                </a:solidFill>
                <a:latin typeface="Calibri"/>
              </a:rPr>
              <a:t>, more </a:t>
            </a:r>
            <a:r>
              <a:rPr b="0" lang="en-US" sz="2800" spc="-1" strike="noStrike" u="sng">
                <a:solidFill>
                  <a:srgbClr val="1f497d"/>
                </a:solidFill>
                <a:uFillTx/>
                <a:latin typeface="Calibri"/>
              </a:rPr>
              <a:t>independent in our daily lives </a:t>
            </a:r>
            <a:r>
              <a:rPr b="0" lang="en-US" sz="2800" spc="-1" strike="noStrike">
                <a:solidFill>
                  <a:srgbClr val="000000"/>
                </a:solidFill>
                <a:latin typeface="Calibri"/>
              </a:rPr>
              <a:t>and more </a:t>
            </a:r>
            <a:r>
              <a:rPr b="0" lang="en-US" sz="2800" spc="-1" strike="noStrike" u="sng">
                <a:solidFill>
                  <a:srgbClr val="1f497d"/>
                </a:solidFill>
                <a:uFillTx/>
                <a:latin typeface="Calibri"/>
              </a:rPr>
              <a:t>involved as citizens</a:t>
            </a:r>
            <a:r>
              <a:rPr b="0" lang="en-US" sz="2800" spc="-1" strike="noStrike">
                <a:solidFill>
                  <a:srgbClr val="000000"/>
                </a:solidFill>
                <a:latin typeface="Calibri"/>
              </a:rPr>
              <a:t>” (2012 European Year for Active Ageing and Solidarity between Gener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Calibri"/>
              </a:rPr>
              <a:t>The aim of active ageing is multidimentional</a:t>
            </a:r>
            <a:endParaRPr b="0" lang="en-US" sz="4400" spc="-1" strike="noStrike">
              <a:solidFill>
                <a:srgbClr val="000000"/>
              </a:solidFill>
              <a:latin typeface="Calibri"/>
            </a:endParaRPr>
          </a:p>
        </p:txBody>
      </p:sp>
      <p:pic>
        <p:nvPicPr>
          <p:cNvPr id="541" name="Picture 7" descr="'UN Principles for Older Persons' - old woman from Mykonos, Greece (11597 bytes)"/>
          <p:cNvPicPr/>
          <p:nvPr/>
        </p:nvPicPr>
        <p:blipFill>
          <a:blip r:embed="rId1"/>
          <a:stretch/>
        </p:blipFill>
        <p:spPr>
          <a:xfrm>
            <a:off x="4648320" y="2349360"/>
            <a:ext cx="4038480" cy="2935440"/>
          </a:xfrm>
          <a:prstGeom prst="rect">
            <a:avLst/>
          </a:prstGeom>
          <a:ln w="0">
            <a:noFill/>
          </a:ln>
        </p:spPr>
      </p:pic>
      <p:pic>
        <p:nvPicPr>
          <p:cNvPr id="542" name="Picture 3" descr=""/>
          <p:cNvPicPr/>
          <p:nvPr/>
        </p:nvPicPr>
        <p:blipFill>
          <a:blip r:embed="rId2"/>
          <a:stretch/>
        </p:blipFill>
        <p:spPr>
          <a:xfrm>
            <a:off x="457200" y="2330280"/>
            <a:ext cx="4038480" cy="3065760"/>
          </a:xfrm>
          <a:prstGeom prst="rect">
            <a:avLst/>
          </a:prstGeom>
          <a:ln w="0">
            <a:noFill/>
          </a:ln>
        </p:spPr>
      </p:pic>
      <p:pic>
        <p:nvPicPr>
          <p:cNvPr id="543" name="Picture 3" descr=""/>
          <p:cNvPicPr/>
          <p:nvPr/>
        </p:nvPicPr>
        <p:blipFill>
          <a:blip r:embed="rId3"/>
          <a:stretch/>
        </p:blipFill>
        <p:spPr>
          <a:xfrm>
            <a:off x="395280" y="1954080"/>
            <a:ext cx="4314960" cy="327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Y2012 - Possibility to spread the information about ageing</a:t>
            </a: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onia has Elderly Policy Principles from </a:t>
            </a:r>
            <a:r>
              <a:rPr b="0" lang="et-EE" sz="3200" spc="-1" strike="noStrike">
                <a:solidFill>
                  <a:srgbClr val="000000"/>
                </a:solidFill>
                <a:latin typeface="Calibri"/>
              </a:rPr>
              <a:t>1999</a:t>
            </a:r>
            <a:r>
              <a:rPr b="0" lang="en-US" sz="3200" spc="-1" strike="noStrike">
                <a:solidFill>
                  <a:srgbClr val="000000"/>
                </a:solidFill>
                <a:latin typeface="Calibri"/>
              </a:rPr>
              <a:t> considering the health and social welfare, family situation, income e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e idea of </a:t>
            </a:r>
            <a:r>
              <a:rPr b="0" lang="en-US" sz="3200" spc="-1" strike="noStrike" u="sng">
                <a:solidFill>
                  <a:srgbClr val="1f497d"/>
                </a:solidFill>
                <a:uFillTx/>
                <a:latin typeface="Calibri"/>
              </a:rPr>
              <a:t>mainstreaming ageing</a:t>
            </a:r>
            <a:r>
              <a:rPr b="0" lang="en-US" sz="3200" spc="-1" strike="noStrike">
                <a:solidFill>
                  <a:srgbClr val="000000"/>
                </a:solidFill>
                <a:latin typeface="Calibri"/>
              </a:rPr>
              <a:t> was too w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stonian active ageing </a:t>
            </a:r>
            <a:r>
              <a:rPr b="0" lang="et-EE" sz="3600" spc="-1" strike="noStrike">
                <a:solidFill>
                  <a:srgbClr val="000000"/>
                </a:solidFill>
                <a:latin typeface="Calibri"/>
              </a:rPr>
              <a:t>developmental plan (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do we need a new strategy</a:t>
            </a:r>
            <a:r>
              <a:rPr b="0" lang="et-EE"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NGOs (+private sector), local governments and the state </a:t>
            </a:r>
            <a:r>
              <a:rPr b="1" lang="en-US" sz="2400" spc="-1" strike="noStrike">
                <a:solidFill>
                  <a:srgbClr val="000000"/>
                </a:solidFill>
                <a:latin typeface="Calibri"/>
              </a:rPr>
              <a:t>should move in one direction</a:t>
            </a:r>
            <a:r>
              <a:rPr b="0" lang="en-US" sz="2400" spc="-1" strike="noStrike">
                <a:solidFill>
                  <a:srgbClr val="000000"/>
                </a:solidFill>
                <a:latin typeface="Calibri"/>
              </a:rPr>
              <a:t> and the strategy is the possibility share the views and </a:t>
            </a:r>
            <a:r>
              <a:rPr b="1" lang="en-US" sz="2400" spc="-1" strike="noStrike">
                <a:solidFill>
                  <a:srgbClr val="000000"/>
                </a:solidFill>
                <a:latin typeface="Calibri"/>
              </a:rPr>
              <a:t>make agreements how to go further</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ageing is possible only then when you </a:t>
            </a:r>
            <a:r>
              <a:rPr b="1" lang="en-US" sz="2400" spc="-1" strike="noStrike">
                <a:solidFill>
                  <a:srgbClr val="000000"/>
                </a:solidFill>
                <a:latin typeface="Calibri"/>
              </a:rPr>
              <a:t>create the possibilities for population to grow older actively</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ies for </a:t>
            </a:r>
            <a:r>
              <a:rPr b="1" lang="en-US" sz="2400" spc="-1" strike="noStrike">
                <a:solidFill>
                  <a:srgbClr val="000000"/>
                </a:solidFill>
                <a:latin typeface="Calibri"/>
              </a:rPr>
              <a:t>active ageing influence the everyday life of the older people and also the states economical success</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y for active ageing is the main document aiming to value the concept of active ageing but also the document helps to plan our activities and to analyse the decisions what could influence active ageing.</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000000"/>
                </a:solidFill>
                <a:latin typeface="Calibri"/>
              </a:rPr>
              <a:t>AADP </a:t>
            </a:r>
            <a:r>
              <a:rPr b="0" lang="en-US" sz="3600" spc="-1" strike="noStrike">
                <a:solidFill>
                  <a:srgbClr val="000000"/>
                </a:solidFill>
                <a:latin typeface="Calibri"/>
              </a:rPr>
              <a:t>2013-2020</a:t>
            </a:r>
            <a:endParaRPr b="0" lang="en-US" sz="3600" spc="-1" strike="noStrike">
              <a:solidFill>
                <a:srgbClr val="000000"/>
              </a:solidFill>
              <a:latin typeface="Calibri"/>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 target group 50+, the heterogeneous group, needs based attitude</a:t>
            </a:r>
            <a:r>
              <a:rPr b="0" lang="et-EE"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ackle ageism, age discrimination.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ility - Age managemen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trategic aim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h and services, education and LLL, involving people and making the labor market more flex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reate possibilities? </a:t>
            </a:r>
            <a:br>
              <a:rPr sz="2400"/>
            </a:br>
            <a:r>
              <a:rPr b="0" lang="en-US" sz="2400" spc="-1" strike="noStrike">
                <a:solidFill>
                  <a:srgbClr val="000000"/>
                </a:solidFill>
                <a:latin typeface="Calibri"/>
              </a:rPr>
              <a:t>The process of creating the strategy.</a:t>
            </a:r>
            <a:endParaRPr b="0" lang="en-US" sz="2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rs vs contributo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ment vs disempower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bout professionals working with older peop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lfarism vs participationis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he citizen, citizenship, social or active citizenshi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ng vs ol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re the borders for chronological ag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cal vs social mod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e ga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carers are over 60 yrs ol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pendence vs dependence (interdepende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id vs unpaid work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nteering activities. Soft measures in labor market.</a:t>
            </a:r>
            <a:endParaRPr b="0" lang="en-US" sz="2000" spc="-1" strike="noStrike">
              <a:solidFill>
                <a:srgbClr val="000000"/>
              </a:solidFill>
              <a:latin typeface="Calibri"/>
            </a:endParaRPr>
          </a:p>
        </p:txBody>
      </p:sp>
      <p:pic>
        <p:nvPicPr>
          <p:cNvPr id="552" name="Picture 4" descr=""/>
          <p:cNvPicPr/>
          <p:nvPr/>
        </p:nvPicPr>
        <p:blipFill>
          <a:blip r:embed="rId1"/>
          <a:stretch/>
        </p:blipFill>
        <p:spPr>
          <a:xfrm>
            <a:off x="3987720" y="5661000"/>
            <a:ext cx="5138640" cy="9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scribe the context 1</a:t>
            </a: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kind of possibilities older people have to be </a:t>
            </a:r>
            <a:r>
              <a:rPr b="1" lang="en-US" sz="3200" spc="-1" strike="noStrike">
                <a:solidFill>
                  <a:srgbClr val="000000"/>
                </a:solidFill>
                <a:latin typeface="Calibri"/>
              </a:rPr>
              <a:t>more included and the share their experience</a:t>
            </a:r>
            <a:r>
              <a:rPr b="0" lang="en-US" sz="3200" spc="-1" strike="noStrike">
                <a:solidFill>
                  <a:srgbClr val="000000"/>
                </a:solidFill>
                <a:latin typeface="Calibri"/>
              </a:rPr>
              <a:t>?</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erson retires or even before (when she/he works) the volunteering and employment are strongly connected to the educational background and health condition.</a:t>
            </a:r>
            <a:r>
              <a:rPr b="0" lang="et-E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persons are quite agree that their age group is not very much included </a:t>
            </a:r>
            <a:r>
              <a:rPr b="0" lang="et-EE" sz="2400" spc="-1" strike="noStrike">
                <a:solidFill>
                  <a:srgbClr val="000000"/>
                </a:solidFill>
                <a:latin typeface="Calibri"/>
              </a:rPr>
              <a:t>in</a:t>
            </a:r>
            <a:r>
              <a:rPr b="0" lang="en-US" sz="2400" spc="-1" strike="noStrike">
                <a:solidFill>
                  <a:srgbClr val="000000"/>
                </a:solidFill>
                <a:latin typeface="Calibri"/>
              </a:rPr>
              <a:t> the societ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5" name="Picture 4" descr=""/>
          <p:cNvPicPr/>
          <p:nvPr/>
        </p:nvPicPr>
        <p:blipFill>
          <a:blip r:embed="rId1"/>
          <a:stretch/>
        </p:blipFill>
        <p:spPr>
          <a:xfrm>
            <a:off x="3492360" y="5300640"/>
            <a:ext cx="513900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8:49:59Z</dcterms:created>
  <dc:creator>Reeli Sirotkina</dc:creator>
  <dc:description/>
  <dc:language>en-US</dc:language>
  <cp:lastModifiedBy>Reeli Sirotkina</cp:lastModifiedBy>
  <dcterms:modified xsi:type="dcterms:W3CDTF">2014-04-07T07:50:37Z</dcterms:modified>
  <cp:revision>13</cp:revision>
  <dc:subject/>
  <dc:title>Aktiivsena vananemise arengukava (AVA) sisu ja rakendamise võimalus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6399448</vt:r8>
  </property>
  <property fmtid="{D5CDD505-2E9C-101B-9397-08002B2CF9AE}" pid="3" name="_AuthorEmail">
    <vt:lpwstr>Reeli.Sirotkina@sm.ee</vt:lpwstr>
  </property>
  <property fmtid="{D5CDD505-2E9C-101B-9397-08002B2CF9AE}" pid="4" name="_AuthorEmailDisplayName">
    <vt:lpwstr>Reeli Sirotkina</vt:lpwstr>
  </property>
  <property fmtid="{D5CDD505-2E9C-101B-9397-08002B2CF9AE}" pid="5" name="_EmailSubject">
    <vt:lpwstr>the seminar on general active ageing issues in Riga on April 7</vt:lpwstr>
  </property>
  <property fmtid="{D5CDD505-2E9C-101B-9397-08002B2CF9AE}" pid="6" name="_NewReviewCycle">
    <vt:lpwstr/>
  </property>
</Properties>
</file>